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600-808A-42FD-AF2D-AF25296D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D57-57E4-4B11-BF75-A5EB6EC9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F7CC-D9B7-4D22-BBAA-A7417920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87D-F375-47E2-A1FE-72904F38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C5A3-A573-44BA-A33F-678068D2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DCD4-C3E2-4452-8F3E-ED4B9E08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488D-0019-4059-85E0-226784E5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8D49-85A0-446F-9047-A435FD1E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9E7F-66A7-4A1A-8817-E940964E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E9AB-2518-40B5-9DE7-D2080DD3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5B21-7BCE-4CF0-B722-3B3F80B7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590-1986-44A5-A416-DFF8FA1A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4D56-DBE7-4AEB-90A6-1682A09A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683C-2920-49AB-8788-2CDF35A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F4F7-E1B3-4C1E-A11A-68A13742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D704-7F1D-456C-8734-3DF849DC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0C10-A799-4C18-88D3-3064CC6D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C7D-E0A8-42D8-A101-003E9294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0E7-7BE2-4B94-AFBD-46D6BF11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C5C-86F2-49D5-9B90-E0500008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D26-8827-46C1-A77A-080C4F00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859-72EF-44A4-87B0-DCF819B2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D6F-BD30-45E9-B01E-5F0A4F82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C63-D3F6-49A2-8DAE-A7DCCF4C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2946-EEF5-433B-9E31-35F3404347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E3DE-DB5D-4374-A1BC-CF05C64D92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Dens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n’t be dense about den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919ff"/>
                </a:solidFill>
                <a:latin typeface="Arial"/>
              </a:rPr>
              <a:t>Liquid Lay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If you pour together liquids that don’t mix and have different densities, they will form liquid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quid with th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highest d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on the bot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quid with th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lowest d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on the t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quid Lay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ut this picture from your book. Which layer has the high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ayer has the low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that the liquids have the following densi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6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number would go with which lay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density column 3"/>
          <p:cNvPicPr/>
          <p:nvPr/>
        </p:nvPicPr>
        <p:blipFill>
          <a:blip r:embed="rId1"/>
          <a:srcRect l="0" t="0" r="66146" b="59639"/>
          <a:stretch/>
        </p:blipFill>
        <p:spPr>
          <a:xfrm>
            <a:off x="6095880" y="1523880"/>
            <a:ext cx="2718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quid Layers – Try with your neighb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high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low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middle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DensityColumn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quid Layers – Try on your own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that the liquids on the right have the following dens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5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10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9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7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12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the colors to the correct dens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density column 2"/>
          <p:cNvPicPr/>
          <p:nvPr/>
        </p:nvPicPr>
        <p:blipFill>
          <a:blip r:embed="rId1"/>
          <a:srcRect l="32079" t="5402" r="37737" b="24165"/>
          <a:stretch/>
        </p:blipFill>
        <p:spPr>
          <a:xfrm>
            <a:off x="4876920" y="1523880"/>
            <a:ext cx="3809880" cy="4876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5341680" y="25146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27680" y="31240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493960" y="38098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7627680" y="449568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265360" y="502920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7772400" y="563868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ormula for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you pour together liquids that have different dens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e liquid on the top have the highest or lowest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e liquid on the bottom have the highest or lowest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per Scientist Question of the D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e has a book, a ruler, and a bal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Jake find the density of the book with the tools he h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MCj02875010000[1]"/>
          <p:cNvPicPr/>
          <p:nvPr/>
        </p:nvPicPr>
        <p:blipFill>
          <a:blip r:embed="rId1"/>
          <a:stretch/>
        </p:blipFill>
        <p:spPr>
          <a:xfrm>
            <a:off x="7010280" y="3962520"/>
            <a:ext cx="1470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What is densit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is a comparison of how much matter there is in a certain amount of space.  Think of it as “how tightly” the matter particles (atoms or molecules) are pac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oser together the particles, the more dense the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ne is more den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: People in a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this: Which square is more d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447920" y="3429000"/>
            <a:ext cx="1904760" cy="190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648320" y="3429000"/>
            <a:ext cx="1904760" cy="190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1752480" y="37339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2209680" y="44197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2590920" y="37339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2895480" y="47242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676520" y="43434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5562720" y="4267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5943600" y="4267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5638680" y="48769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6172200" y="41148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5943600" y="39625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6095880" y="49528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952880" y="41148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5257800" y="37339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5257800" y="48769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4952880" y="44956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2"/>
          <p:cNvSpPr/>
          <p:nvPr/>
        </p:nvSpPr>
        <p:spPr>
          <a:xfrm>
            <a:off x="5257800" y="41911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3"/>
          <p:cNvSpPr/>
          <p:nvPr/>
        </p:nvSpPr>
        <p:spPr>
          <a:xfrm>
            <a:off x="4876920" y="49528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4"/>
          <p:cNvSpPr/>
          <p:nvPr/>
        </p:nvSpPr>
        <p:spPr>
          <a:xfrm>
            <a:off x="5410080" y="45720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5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6"/>
          <p:cNvSpPr/>
          <p:nvPr/>
        </p:nvSpPr>
        <p:spPr>
          <a:xfrm>
            <a:off x="5029200" y="3886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7"/>
          <p:cNvSpPr/>
          <p:nvPr/>
        </p:nvSpPr>
        <p:spPr>
          <a:xfrm>
            <a:off x="6172200" y="46483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8"/>
          <p:cNvSpPr/>
          <p:nvPr/>
        </p:nvSpPr>
        <p:spPr>
          <a:xfrm>
            <a:off x="5867280" y="51055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9"/>
          <p:cNvSpPr/>
          <p:nvPr/>
        </p:nvSpPr>
        <p:spPr>
          <a:xfrm>
            <a:off x="5943600" y="36576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0"/>
          <p:cNvSpPr/>
          <p:nvPr/>
        </p:nvSpPr>
        <p:spPr>
          <a:xfrm>
            <a:off x="5562720" y="3886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1"/>
          <p:cNvSpPr/>
          <p:nvPr/>
        </p:nvSpPr>
        <p:spPr>
          <a:xfrm>
            <a:off x="4876920" y="35812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0"/>
          <p:cNvSpPr/>
          <p:nvPr/>
        </p:nvSpPr>
        <p:spPr>
          <a:xfrm>
            <a:off x="1819800" y="571500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second square has more 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refore it has more m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ich one is more den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hich one is more d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52480" y="2590920"/>
            <a:ext cx="990720" cy="99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343400" y="2514600"/>
            <a:ext cx="205740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190512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2209680" y="28195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1905120" y="32767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"/>
          <p:cNvSpPr/>
          <p:nvPr/>
        </p:nvSpPr>
        <p:spPr>
          <a:xfrm>
            <a:off x="2286000" y="3124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251460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457200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4724280" y="39625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5638680" y="42670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5"/>
          <p:cNvSpPr/>
          <p:nvPr/>
        </p:nvSpPr>
        <p:spPr>
          <a:xfrm>
            <a:off x="6019920" y="3124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1238760" y="5029200"/>
            <a:ext cx="70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What changed between the two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16" descr=""/>
          <p:cNvPicPr/>
          <p:nvPr/>
        </p:nvPicPr>
        <p:blipFill>
          <a:blip r:embed="rId1"/>
          <a:stretch/>
        </p:blipFill>
        <p:spPr>
          <a:xfrm>
            <a:off x="2724120" y="5486400"/>
            <a:ext cx="32558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What is densit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Density = </a:t>
            </a:r>
            <a:r>
              <a:rPr b="0" lang="en-US" sz="3200" spc="-1" strike="noStrike" u="sng">
                <a:solidFill>
                  <a:srgbClr val="1919ff"/>
                </a:solidFill>
                <a:uFillTx/>
                <a:latin typeface="Arial"/>
              </a:rPr>
              <a:t> mass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OR     mass ÷ vol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Units for density: </a:t>
            </a:r>
            <a:r>
              <a:rPr b="0" lang="en-US" sz="3200" spc="-1" strike="noStrike" u="sng">
                <a:solidFill>
                  <a:srgbClr val="1919ff"/>
                </a:solidFill>
                <a:uFillTx/>
                <a:latin typeface="Arial"/>
              </a:rPr>
              <a:t> g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or g/mL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these the units for den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553080" y="2590920"/>
            <a:ext cx="1676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REMEMBER UNI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density formula.jpg"/>
          <p:cNvPicPr/>
          <p:nvPr/>
        </p:nvPicPr>
        <p:blipFill>
          <a:blip r:embed="rId1"/>
          <a:stretch/>
        </p:blipFill>
        <p:spPr>
          <a:xfrm>
            <a:off x="6095880" y="381960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se the triangle to help you solve problems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up what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for and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left with wha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ith the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sosceles Triangle 3"/>
          <p:cNvSpPr/>
          <p:nvPr/>
        </p:nvSpPr>
        <p:spPr>
          <a:xfrm>
            <a:off x="2819520" y="914400"/>
            <a:ext cx="5867280" cy="51814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5"/>
          <p:cNvSpPr/>
          <p:nvPr/>
        </p:nvSpPr>
        <p:spPr>
          <a:xfrm>
            <a:off x="4267080" y="3657600"/>
            <a:ext cx="304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7"/>
          <p:cNvSpPr/>
          <p:nvPr/>
        </p:nvSpPr>
        <p:spPr>
          <a:xfrm>
            <a:off x="5715000" y="365760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Rectangle 8" descr=""/>
          <p:cNvPicPr/>
          <p:nvPr/>
        </p:nvPicPr>
        <p:blipFill>
          <a:blip r:embed="rId1"/>
          <a:stretch/>
        </p:blipFill>
        <p:spPr>
          <a:xfrm>
            <a:off x="3803760" y="4248000"/>
            <a:ext cx="1463400" cy="181800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9" descr=""/>
          <p:cNvPicPr/>
          <p:nvPr/>
        </p:nvPicPr>
        <p:blipFill>
          <a:blip r:embed="rId2"/>
          <a:stretch/>
        </p:blipFill>
        <p:spPr>
          <a:xfrm>
            <a:off x="4992840" y="2036880"/>
            <a:ext cx="1444320" cy="1815840"/>
          </a:xfrm>
          <a:prstGeom prst="rect">
            <a:avLst/>
          </a:prstGeom>
          <a:ln w="0">
            <a:noFill/>
          </a:ln>
        </p:spPr>
      </p:pic>
      <p:pic>
        <p:nvPicPr>
          <p:cNvPr id="156" name="Rectangle 10" descr=""/>
          <p:cNvPicPr/>
          <p:nvPr/>
        </p:nvPicPr>
        <p:blipFill>
          <a:blip r:embed="rId3"/>
          <a:stretch/>
        </p:blipFill>
        <p:spPr>
          <a:xfrm>
            <a:off x="6156360" y="4248000"/>
            <a:ext cx="1324080" cy="18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try a density problem togeth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 has a paper clip. It has a mass of 9g and a volume of 3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its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 also has an eraser. It has a mass of 3g, and a volume of 1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its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these problems with your neigh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has a rock. The rock has a mass of 6g and a volume of 3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ro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ll has a gel pen. The gel pen has a mass of 8g and a volume of 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ro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w, try these on your ow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’Licia has a watch. It has a mass of 4g and a volume of 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wat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a has a wallet. It has a mass of 15g and a volume of 5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wall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7:35:32Z</dcterms:created>
  <dc:creator>Rebecca Walter</dc:creator>
  <dc:description/>
  <dc:language>en-US</dc:language>
  <cp:lastModifiedBy>jluckey</cp:lastModifiedBy>
  <dcterms:modified xsi:type="dcterms:W3CDTF">2012-09-24T23:10:25Z</dcterms:modified>
  <cp:revision>6</cp:revision>
  <dc:subject/>
  <dc:title>Density</dc:title>
</cp:coreProperties>
</file>